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4DD-FC3B-42F1-B9C7-B32DFA38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A31-EA9B-4925-B0A1-2665E5B2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CA2-90F8-4EF7-A286-3772EC8E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ED0-F8E3-4D83-8DCF-47936711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01F-42C7-4E9F-B46D-6341F1D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2DF-C6B5-44D5-9A90-9328C938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6EC-7F3B-4D7E-B652-C0437C96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715-8BFB-498E-A391-FF1C15E1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9A7-9992-44CE-AA6B-8341DE8C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49F-DDFA-4B2E-A750-52D2C1F0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CC9-BF45-4BA2-9781-D91D38C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B0F-52BC-4B1A-ADC3-2C3FFAAD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E451-F899-43A8-B525-1C6177C6C57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7.3 Parenthood: Changes in This Stage of the Life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54364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1998, Dave Dupuis wrote a report on a survey that examined factors that influence people’s plans to have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do you think the report f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report fou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2017800" cy="269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2209680" cy="2761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6195960" y="2532240"/>
            <a:ext cx="2813040" cy="225072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4"/>
          <a:stretch/>
        </p:blipFill>
        <p:spPr>
          <a:xfrm>
            <a:off x="-311040" y="4932360"/>
            <a:ext cx="3078000" cy="227952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4" descr=""/>
          <p:cNvPicPr/>
          <p:nvPr/>
        </p:nvPicPr>
        <p:blipFill>
          <a:blip r:embed="rId5"/>
          <a:stretch/>
        </p:blipFill>
        <p:spPr>
          <a:xfrm>
            <a:off x="3151080" y="4937040"/>
            <a:ext cx="2841840" cy="228132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5" descr=""/>
          <p:cNvPicPr/>
          <p:nvPr/>
        </p:nvPicPr>
        <p:blipFill>
          <a:blip r:embed="rId6"/>
          <a:stretch/>
        </p:blipFill>
        <p:spPr>
          <a:xfrm>
            <a:off x="6188040" y="5346720"/>
            <a:ext cx="31384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three of those factors had an impact on a person’s decision on when to have children and how many children to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rriage is said to lead people to want to have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spite the amount of common law unions in Canada, 2/3 of births still occur within marri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Rectangle 3" descr=""/>
          <p:cNvPicPr/>
          <p:nvPr/>
        </p:nvPicPr>
        <p:blipFill>
          <a:blip r:embed="rId1"/>
          <a:stretch/>
        </p:blipFill>
        <p:spPr>
          <a:xfrm>
            <a:off x="0" y="1487520"/>
            <a:ext cx="2803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rth rate among married women is nearly double that of women who spent their entire reproductive life in a common law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-49320" y="1487520"/>
            <a:ext cx="30783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rents transfer attitudes and behaviours to their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ng adults who have many siblings tend to want more children as opposed to young adults with few sibl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-291960" y="1384200"/>
            <a:ext cx="5229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aspect in this study that was found to not have an impact on child bearing attitudes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1"/>
          <a:stretch/>
        </p:blipFill>
        <p:spPr>
          <a:xfrm>
            <a:off x="-360360" y="1243080"/>
            <a:ext cx="5230800" cy="151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3316320" cy="30798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4" descr=""/>
          <p:cNvPicPr/>
          <p:nvPr/>
        </p:nvPicPr>
        <p:blipFill>
          <a:blip r:embed="rId3"/>
          <a:stretch/>
        </p:blipFill>
        <p:spPr>
          <a:xfrm>
            <a:off x="3822840" y="4194000"/>
            <a:ext cx="299232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Young adults who reported having no religion tend to have the smallest number of child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lso people who attended church weekly had larger families because they tend to view marriage and family as important to their happ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4920" y="692280"/>
            <a:ext cx="16444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ccording to Dupuis` report the factor that had the biggest impact on decisions about parenthood w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732720" y="5372280"/>
            <a:ext cx="2239920" cy="148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5472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general, the more education women have, the fewer children they b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s particularly true about women with a university de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osts associated with interruptions to their careers tend to delay child b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do you think any changes would occ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omen: this change occurs pregnancy as they anticipate their future ch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hysical ac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 the contr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n with a higher education level tend to father more childre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s due to the fact that university educated men have well paid, stable employment and are better suited to afford more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rends Associated with Parent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are Social factors and parenthood rel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trends that seem to be affecting child bearing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rends Associated with Parent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ild-bearing later i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ability of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of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ffect of Medical Advances on the Age of Par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productive Technologies  have helped to extend their fertility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ability the buy eggs of a younger women for fertilization and implementation into an older woman has extended fertility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biens and Gay Cou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sults in a strong attachment between the mother and inf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3984480" cy="388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816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men, the transition to “father” occurs more slowly, usually following the birth of the ba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atching the infant continue to develop and become less dependent on the mo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4754520"/>
            <a:ext cx="2816280" cy="211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6588000" y="5038560"/>
            <a:ext cx="25560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though the joys of parenthood remain the same from generation to generation, the nature of parenting itself does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ach generation has new beliefs abou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761080" cy="35272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3" descr=""/>
          <p:cNvPicPr/>
          <p:nvPr/>
        </p:nvPicPr>
        <p:blipFill>
          <a:blip r:embed="rId3"/>
          <a:stretch/>
        </p:blipFill>
        <p:spPr>
          <a:xfrm>
            <a:off x="2676600" y="5132520"/>
            <a:ext cx="34621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2600" y="1484280"/>
            <a:ext cx="3357720" cy="234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5375160" y="164448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1619280" y="3843360"/>
            <a:ext cx="429264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3" descr=""/>
          <p:cNvPicPr/>
          <p:nvPr/>
        </p:nvPicPr>
        <p:blipFill>
          <a:blip r:embed="rId5"/>
          <a:stretch/>
        </p:blipFill>
        <p:spPr>
          <a:xfrm>
            <a:off x="5638680" y="3773520"/>
            <a:ext cx="36385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3887640" cy="259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4716360" y="1484280"/>
            <a:ext cx="3888000" cy="2594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108000" y="4508640"/>
            <a:ext cx="3887640" cy="231444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3" descr=""/>
          <p:cNvPicPr/>
          <p:nvPr/>
        </p:nvPicPr>
        <p:blipFill>
          <a:blip r:embed="rId5"/>
          <a:stretch/>
        </p:blipFill>
        <p:spPr>
          <a:xfrm>
            <a:off x="4432320" y="4194000"/>
            <a:ext cx="39258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wo other major factors combine to change the nature of parenthood from one period of time to the nex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3213000"/>
            <a:ext cx="385128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099040" y="306864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" descr=""/>
          <p:cNvPicPr/>
          <p:nvPr/>
        </p:nvPicPr>
        <p:blipFill>
          <a:blip r:embed="rId3"/>
          <a:stretch/>
        </p:blipFill>
        <p:spPr>
          <a:xfrm>
            <a:off x="-139680" y="5559480"/>
            <a:ext cx="3852720" cy="145728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4" descr=""/>
          <p:cNvPicPr/>
          <p:nvPr/>
        </p:nvPicPr>
        <p:blipFill>
          <a:blip r:embed="rId4"/>
          <a:stretch/>
        </p:blipFill>
        <p:spPr>
          <a:xfrm>
            <a:off x="4468680" y="5559480"/>
            <a:ext cx="46879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0:23:02Z</dcterms:created>
  <dc:creator>Jason</dc:creator>
  <dc:description/>
  <dc:language>en-US</dc:language>
  <cp:lastModifiedBy>Jason</cp:lastModifiedBy>
  <dcterms:modified xsi:type="dcterms:W3CDTF">2011-05-16T16:42:33Z</dcterms:modified>
  <cp:revision>13</cp:revision>
  <dc:subject/>
  <dc:title>7.3 Parenthood: Changes in This Stage of the Life Cycle</dc:title>
</cp:coreProperties>
</file>